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F526-E0A9-4F04-927F-94202EE084C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858D-FAF9-4F00-BF71-87EF818309A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άξη, οι ηγέτες των ανελεύθερων δημοκρατιών χρησιμοποιούν την πολιτική κουλτούρα, αναδεικνύοντας επιλεκτικά τα απολυταρχικά της στοιχεία. Η επιδεξιότητα με την οποία τη χρησιμοποιούν αποτελεί μάλιστα συχνά έναν από τους λόγους της πολιτικής τους επιτυχίας. Όπως γράφει ο O'Donnell, οι τάσεις αυτές είναι διαδεδομένες σε μη δυτικές χώρες: Είτε ονομάζεται κουλτούρα, είτε παράδοση, είτε ιστορικό παρελθόν, οι δημοψηφισματικές τάσεις και ο πανίσχυρος ηγέτης-πατερούλης, σε ένα σύστημα δημοκρατίας δι' αντιπροσώπου, αποτελούν γνωρίσματα των περισσότερων χωρών της Λατινικής Αμερικής (όπως επίσης πολλών χωρών της Κεντρικής Ευρώπης, πρώην σοβιετικών δημοκρατιών και κρατών της Αφρικής και της Ασίας).</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2998-0F5D-41C5-940C-CF3821C02EE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ολιτική κουλτούρα των ελίτ (elite political culture) συνίσταται στις πεποιθήσεις, στις στάσεις και στις ιδέες που έχουν για την πολιτική όσοι βρίσκονται εγγύτερα στα κέντρα της πολιτικής εξουσίας. Οι αξίες των ελίτ είναι πιο ρητές, συστηματικές και μεγαλόσχημες από εκείνες που ενστερνίζεται ο γενικός πληθυσμ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2EED-E834-43C2-8E1D-E783BEC738D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αινετική δημοκρατία (consociational democracy) είναι μια διευθέτηση όπου οι συμφωνίες σε επίπεδο ηγεσιών των διάφορων πυλώνων μιας διαιρεμένης κοινωνίας βοηθούν στην εξασφάλιση της πολιτικής σταθερότητ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BDFA-C932-4682-A400-98CFC548CAD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υλώνες (pillars) είναι οργανωμένες κοινότητες, κατά κανόνα θρησκευτικού (π.χ. καθολικοί) ή ιδεολογικού (π.χ. σοσιαλιστές) χαρακτή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A72B-D42A-4EB3-8C4F-55892B22F92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ύριο κράτος (core state) είναι επικεφαλής του πολιτισμού, το κράτος-μέλος (member state) ταυτίζεται με ένα μόνο πολιτισμό, ενώ το μοναχικό κράτος (lone state) είτε σχηματίζει τον δικό του πολιτισμό είτε ανήκει, όπως η Αϊτή, σε δική του κατηγορία. Η πιο ενδιαφέρουσα κατηγορία ενδεχομένως είναι τα μικτά ή διχασμένα κράτη, οι ηγέτες των οποίων ενίοτε μπορεί να επιχειρήσουν το δύσκολο έργο της μετακίνησης της χώρας τους από τον έναν πολιτισμό στον άλλο.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E2FA-600C-4AA2-8C21-05A37DD1484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ολιτική κουλτούρα (political culture) είναι το σύνολο των θεμελιωδών αξιών, συναισθημάτων και γνώσεων που δίνουν μορφή και υπόσταση στις πολιτικές διαδικασίες. Μπορεί να γίνει αντιληπτή είτε ως το σύνολο των στάσεων των ατόμων είτε ως ένα χαρακτηριστικό -η κουλτούρα- μιας ομάδας που νοηματοδοτεί την πολιτική δράση 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A177-118F-443D-9974-1DBFE44E935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μια κουλτούρα πολιτών (civic culture), πολλοί πολίτες είναι πολιτικώς ενεργοί, όμως η παθητική μειοψηφία εξασφαλίζει τη σταθερότητα του συστήματος. Πέραν τούτου, οι συμμετέχοντες στο πολιτικό σύστημα δεν είναι τόσο βαθιά αναμεμιγμένοι, ώστε να μην αποδέχονται τις αποφάσεις με τις οποίες διαφωνούν. Έτσι, η κουλτούρα πολιτών επιλύει την εγγενή σύγκρουση που υπάρχει στη δημοκρατία ανάμεσα στον λαϊκό έλεγχο και την αποτελεσματική διακυβέρνηση: επιτρέπει στους πολίτες να ασκούν επιρροή, εξασφαλίζοντας παράλληλα την ευελιξία που χρειάζεται η κυβέρνη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58F8-57B7-41C4-A8D4-38CB42864F1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οινωνικό κεφάλαιο (social capital) αναφέρεται σε μια κουλτούρα εμπιστοσύνης και συνεργασίας, που καθιστά τη συλλογική δράση εφικτή και αποτελεσματική. Όπως λέει ο Putnam, πρόκειται για την ικανότητα μιας κοινότητας να περάσει από το εγώ στο εμείς. Μια πολιτική κουλτούρα με επαρκή αποθέματα κοινωνικού κεφαλαίου επιτρέπει στην κοινότητα να χτίσει πολιτικούς θεσμούς που είναι ικανοί να επιλύουν τα προβλήματα του συνόλ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CA67-8E71-46B0-AADC-F06FA3BF3EA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ολιτική γενεά (political generation) είναι μια ηλικιακή γενεά, που έχει κοινές εμπειρίες και αξίες, οι οποίες διαμορφώνουν την κοσμοθεωρία της εφ' όρου ζω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DE74-4AE7-4A20-BC64-90336F76C49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84E0-3995-4DFD-901E-5ABEA63F959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αϋλισμός (postmaterialism) είναι η προσήλωση σε ριζοσπαστικά ζητήματα, που άπτονται της ποιότητας ζωής (όπως το περιβάλλον). Καλλιεργείται, ιδίως στις τάξεις των μορφωμένων νέων, όταν επικρατούν συνθήκες προσωπικής ασφάλειας και υλικής ευημερίας. Οι μεταϋλιστές είναι κατά κανόνα πολιτικά ενεργοί, όμως έχουν την τάση να συμμετέχουν σε ομάδες που προωθούν συγκεκριμένους στόχους και αμφισβητούν την ελίτ, και όχι σε πολιτικά κόμ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DF0D-7F5F-4137-A502-53239FDD937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θώς δεν διαθέτουν τη νομιμοποίηση που απορρέει από τις ελεύθερες εκλογές, οι απολυταρχικοί ηγέτες είναι υποχρεωμένοι να αναζητούν άλλους τρόπους για να αποκριθούν στην πολιτική κουλτούρα των κοινωνιών των οποίων ηγούνται. Σε γενικές γραμμές, έχουν τρεις επιλογές: να αγνοήσουν, να χειραγωγήσουν ή να επιχειρήσουν να αναμορφώσουν την υφιστάμενη πολιτική κουλτούρα.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4B769-B6C5-4366-AF0F-FC35151A9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4539C-AD3B-41A8-B47D-79D9D4DB8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11820-983E-4DCE-A683-4D640FBF6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A3B75-65AF-46CF-AF5D-876E2BB0F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5A6FF-FACD-4704-A294-1CD9B54C6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B67A2-2EB8-4AB4-8664-FBFADBD52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BE41C-5DF6-49F5-A53C-0667DD445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A3FCB-B908-4B45-80A0-9589A6777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59D1A-2E66-41EF-8D3B-372D12366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9013F-0218-45BB-9881-6DDA393F2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1D671-05D1-4C24-8B5D-BCFFDA5BE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B18F5-745A-42B3-A497-5BB768F4C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2874D-B8AD-44F0-8CA4-576F6701C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023DC-3200-490F-94F4-2A6D145B5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1FD7C-E54A-4430-9FC8-280756982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06562-8700-46F0-9E3F-1E18CF2E6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7D473-FD35-4EC2-B584-C467C083CC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48178-13E9-4FA7-85EB-4430C3C96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F8A52-0D24-4F5D-B8E5-50E9EBAF4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803CD-5BF0-488C-ABC3-9C82BE9E0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F4B68-28D9-400F-8F0D-D7ED843ED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F9755-A947-4ECA-9C42-16153C1C6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FEB15-BE20-40BD-862D-CE0D4B6AC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BDD8A-F23F-4A6C-AC84-041208CDE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29BA-B623-4E18-8BA1-7D5A1DA6C6EE}"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EE73-5833-443A-975C-BB5FF7C8146C}"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7</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ή κουλτούρ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ολιτική κουλτούρα στις ανελεύθερες δημοκρατίες</a:t>
            </a:r>
            <a:endParaRPr b="0" lang="en-US" sz="38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ιλεκτική ανάδειξη των απολυταρχικών στοιχείων της πολιτικής κουλτούρ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πολιτική κουλτούρα των ελίτ</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ολιτική κουλτούρα των ελίτ (elite political culture) συνίσταται στις πεποιθήσεις, στις στάσεις και στις ιδέες που έχουν για την πολιτική όσοι βρίσκονται εγγύτερα στα κέντρα της πολιτικής εξουσίας. Οι αξίες των ελίτ είναι πιο ρητές, συστηματικές και μεγαλόσχημες από εκείνες που ενστερνίζεται ο γενικός πληθυσμός.</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Verba, 198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πολιτική κουλτούρα των ελίτ</a:t>
            </a:r>
            <a:endParaRPr b="0" lang="en-US" sz="4200" spc="-1" strike="noStrike">
              <a:solidFill>
                <a:srgbClr val="66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ναινετική δημοκρατία (consociational democracy) είναι μια διευθέτηση όπου οι συμφωνίες σε επίπεδο ηγεσιών των διάφορων πυλώνων μιας διαιρεμένης κοινωνίας βοηθούν στην εξασφάλιση της πολιτικής σταθερότητα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πολιτική κουλτούρα των ελίτ</a:t>
            </a:r>
            <a:endParaRPr b="0" lang="en-US" sz="4200" spc="-1" strike="noStrike">
              <a:solidFill>
                <a:srgbClr val="66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πυλώνες (pillars) είναι οργανωμένες κοινότητες, κατά κανόνα θρησκευτικού (π.χ. καθολικοί) ή ιδεολογικού (π.χ. σοσιαλιστές) χαρακτήρ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ύγκρουση πολιτισμών;</a:t>
            </a:r>
            <a:endParaRPr b="0" lang="en-US" sz="4200" spc="-1" strike="noStrike">
              <a:solidFill>
                <a:srgbClr val="660033"/>
              </a:solidFill>
              <a:latin typeface="Times New Roman"/>
            </a:endParaRPr>
          </a:p>
        </p:txBody>
      </p:sp>
      <p:pic>
        <p:nvPicPr>
          <p:cNvPr id="133" name="Picture 4" descr=""/>
          <p:cNvPicPr/>
          <p:nvPr/>
        </p:nvPicPr>
        <p:blipFill>
          <a:blip r:embed="rId1"/>
          <a:stretch/>
        </p:blipFill>
        <p:spPr>
          <a:xfrm>
            <a:off x="2666880" y="1581120"/>
            <a:ext cx="3657600" cy="497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4 - TextBox"/>
          <p:cNvSpPr/>
          <p:nvPr/>
        </p:nvSpPr>
        <p:spPr>
          <a:xfrm>
            <a:off x="1219320" y="2328840"/>
            <a:ext cx="701028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ή κουλτούρα (political culture) είναι το σύνολο των θεμελιωδών αξιών, συναισθημάτων και γνώσεων που δίνουν μορφή και υπόσταση στις πολιτικές διαδικασίες. Μπορεί να γίνει αντιληπτή είτε ως το σύνολο των στάσεων των ατόμων είτε ως ένα χαρακτηριστικό -η κουλτούρα- μιας ομάδας που νοηματοδοτεί την πολιτική δράση τ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Μελετώντας την πολιτική κουλτούρα</a:t>
            </a:r>
            <a:endParaRPr b="0" lang="en-US" sz="38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μια κουλτούρα πολιτών (civic culture), πολλοί πολίτες είναι πολιτικώς ενεργοί, όμως η παθητική μειοψηφία εξασφαλίζει τη σταθερότητα του συστήματος. Πέραν τούτου, οι συμμετέχοντες στο πολιτικό σύστημα δεν είναι τόσο βαθιά αναμεμιγμένοι, ώστε να μην αποδέχονται τις αποφάσεις με τις οποίες διαφωνού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Πολιτική εμπιστοσύνη και κοινωνικό κεφάλαιο</a:t>
            </a:r>
            <a:endParaRPr b="0" lang="en-US" sz="3800" spc="-1" strike="noStrike">
              <a:solidFill>
                <a:srgbClr val="660033"/>
              </a:solidFill>
              <a:latin typeface="Times New Roman"/>
            </a:endParaRPr>
          </a:p>
        </p:txBody>
      </p:sp>
      <p:sp>
        <p:nvSpPr>
          <p:cNvPr id="111" name="PlaceHolder 2"/>
          <p:cNvSpPr>
            <a:spLocks noGrp="1"/>
          </p:cNvSpPr>
          <p:nvPr>
            <p:ph/>
          </p:nvPr>
        </p:nvSpPr>
        <p:spPr>
          <a:xfrm>
            <a:off x="914400" y="1599840"/>
            <a:ext cx="7772400" cy="685800"/>
          </a:xfrm>
          <a:prstGeom prst="rect">
            <a:avLst/>
          </a:prstGeom>
          <a:noFill/>
          <a:ln w="0">
            <a:noFill/>
          </a:ln>
        </p:spPr>
        <p:txBody>
          <a:bodyPr anchor="t">
            <a:normAutofit fontScale="97000"/>
          </a:bodyPr>
          <a:p>
            <a:pPr marL="332640" indent="-33264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7.1:</a:t>
            </a:r>
            <a:r>
              <a:rPr b="0" lang="en-US" sz="2000" spc="-1" strike="noStrike">
                <a:solidFill>
                  <a:srgbClr val="000000"/>
                </a:solidFill>
                <a:latin typeface="Arial"/>
              </a:rPr>
              <a:t> </a:t>
            </a:r>
            <a:r>
              <a:rPr b="0" lang="el-GR" sz="2000" spc="-1" strike="noStrike">
                <a:solidFill>
                  <a:srgbClr val="000000"/>
                </a:solidFill>
                <a:latin typeface="Arial"/>
              </a:rPr>
              <a:t>Η εμπιστοσύνη των Αμερικανών προς την «κυβέρνηση της Ουάσιγκτον», 1964-2007  </a:t>
            </a:r>
            <a:endParaRPr b="0" lang="en-US" sz="2000" spc="-1" strike="noStrike">
              <a:solidFill>
                <a:srgbClr val="000000"/>
              </a:solidFill>
              <a:latin typeface="Arial"/>
            </a:endParaRPr>
          </a:p>
        </p:txBody>
      </p:sp>
      <p:pic>
        <p:nvPicPr>
          <p:cNvPr id="112" name="Picture 4" descr="C:\Users\EPIMELEIA\Dropbox\Kritiki-Book-Proofing\14-sigritiki-politiki-hague\images\Hag_Fig_07_01.png"/>
          <p:cNvPicPr/>
          <p:nvPr/>
        </p:nvPicPr>
        <p:blipFill>
          <a:blip r:embed="rId1"/>
          <a:stretch/>
        </p:blipFill>
        <p:spPr>
          <a:xfrm>
            <a:off x="990720" y="2536920"/>
            <a:ext cx="7853400" cy="28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Πολιτική εμπιστοσύνη και κοινωνικό κεφάλαιο</a:t>
            </a:r>
            <a:endParaRPr b="0" lang="en-US" sz="3800" spc="-1" strike="noStrike">
              <a:solidFill>
                <a:srgbClr val="66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οινωνικό κεφάλαιο (social capital) αναφέρεται σε μια κουλτούρα εμπιστοσύνης και συνεργασίας, που καθιστά τη συλλογική δράση εφικτή και αποτελεσματικ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Ανάλυση γενεών και μεταϋλισμός</a:t>
            </a:r>
            <a:endParaRPr b="0" lang="en-US" sz="3800" spc="-1" strike="noStrike">
              <a:solidFill>
                <a:srgbClr val="66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ή γενεά (political generation) είναι μια ηλικιακή γενεά, που έχει κοινές εμπειρίες και αξίες, οι οποίες διαμορφώνουν την κοσμοθεωρία της εφ' όρου ζω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Ανάλυση γενεών και μεταϋλισμός</a:t>
            </a:r>
            <a:endParaRPr b="0" lang="en-US" sz="3800" spc="-1" strike="noStrike">
              <a:solidFill>
                <a:srgbClr val="660033"/>
              </a:solidFill>
              <a:latin typeface="Times New Roman"/>
            </a:endParaRPr>
          </a:p>
        </p:txBody>
      </p:sp>
      <p:sp>
        <p:nvSpPr>
          <p:cNvPr id="118" name="PlaceHolder 2"/>
          <p:cNvSpPr>
            <a:spLocks noGrp="1"/>
          </p:cNvSpPr>
          <p:nvPr>
            <p:ph/>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7.2: Πολιτικές γενεές</a:t>
            </a:r>
            <a:endParaRPr b="0" lang="en-US" sz="2000" spc="-1" strike="noStrike">
              <a:solidFill>
                <a:srgbClr val="000000"/>
              </a:solidFill>
              <a:latin typeface="Arial"/>
            </a:endParaRPr>
          </a:p>
        </p:txBody>
      </p:sp>
      <p:pic>
        <p:nvPicPr>
          <p:cNvPr id="119" name="Picture 4" descr="C:\Users\EPIMELEIA\Dropbox\Kritiki-Book-Proofing\14-sigritiki-politiki-hague\images\Hag_Fig_07_02.png"/>
          <p:cNvPicPr/>
          <p:nvPr/>
        </p:nvPicPr>
        <p:blipFill>
          <a:blip r:embed="rId1"/>
          <a:stretch/>
        </p:blipFill>
        <p:spPr>
          <a:xfrm>
            <a:off x="1066680" y="2209680"/>
            <a:ext cx="7426440" cy="320364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Ανάλυση γενεών και μεταϋλισμός</a:t>
            </a:r>
            <a:endParaRPr b="0" lang="en-US" sz="38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ταϋλισμός (postmaterialism) είναι η προσήλωση σε ριζοσπαστικά ζητήματα, που άπτονται της ποιότητας ζωής (όπως το περιβάλλον). Καλλιεργείται, ιδίως στις τάξεις των μορφωμένων νέων, όταν επικρατούν συνθήκες προσωπικής ασφάλειας και υλικής ευημερία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ολιτική κουλτούρα στα απολυταρχικά καθεστώτα</a:t>
            </a:r>
            <a:endParaRPr b="0" lang="en-US" sz="38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φρόνηση της πολιτικής κουλτούρας (π.χ. στρατιωτικά καθεστώτ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ειραγώγηση της πολιτικής κουλτούρας (π.χ. ισλαμικές χώρε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πάθεια αναμόρφωσης της πολιτικής κουλτούρας (π.χ. κομμουνιστικά καθεστώ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06:01:41Z</dcterms:created>
  <dc:creator>pc</dc:creator>
  <dc:description/>
  <dc:language>en-US</dc:language>
  <cp:lastModifiedBy>EPIMELEIA</cp:lastModifiedBy>
  <dcterms:modified xsi:type="dcterms:W3CDTF">2013-09-23T09:11:44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